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2.gif" ContentType="image/gif"/>
  <Override PartName="/ppt/media/image9.gif" ContentType="image/gif"/>
  <Override PartName="/ppt/media/image8.jpeg" ContentType="image/jpeg"/>
  <Override PartName="/ppt/media/image2.gif" ContentType="image/gif"/>
  <Override PartName="/ppt/media/image7.png" ContentType="image/png"/>
  <Override PartName="/ppt/media/image4.gif" ContentType="image/gif"/>
  <Override PartName="/ppt/media/image1.jpeg" ContentType="image/jpeg"/>
  <Override PartName="/ppt/media/image19.gif" ContentType="image/gif"/>
  <Override PartName="/ppt/media/image20.gif" ContentType="image/gif"/>
  <Override PartName="/ppt/media/image18.gif" ContentType="image/gif"/>
  <Override PartName="/ppt/media/image17.gif" ContentType="image/gif"/>
  <Override PartName="/ppt/media/image3.png" ContentType="image/png"/>
  <Override PartName="/ppt/media/image21.png" ContentType="image/png"/>
  <Override PartName="/ppt/media/image16.gif" ContentType="image/gif"/>
  <Override PartName="/ppt/media/image15.gif" ContentType="image/gif"/>
  <Override PartName="/ppt/media/image1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CCB9-BCD0-4354-9C99-867A859BF9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49A13-8E7C-4CAA-A975-F4E71A403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071CB-D05A-4D35-BCB3-5A3C9245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2ADE-A007-40AD-9900-EA1366259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0ACC-0AA1-4AAF-84A4-39DA67D51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81D8A-83AA-4223-BBA9-00E8ACDFF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EFAF-41E6-4449-921E-418C5320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0C67-7BFD-410D-935C-78E181945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5173-2DFF-4D0E-A098-518B2DCE6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90A6-D221-422F-9669-72266A02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58AE-55C4-4212-A065-3F27519F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F6274-B822-4666-9CFB-3EC1A5138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1BBDD-4D22-4C3C-A017-79452C518A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seds.lpl.arizona.edu/nineplanets/nineplanets/nineplanets.html" TargetMode="External"/><Relationship Id="rId3" Type="http://schemas.openxmlformats.org/officeDocument/2006/relationships/hyperlink" Target="http://kids.msfc.nasa.gov/SolarSystem/Planets/" TargetMode="External"/><Relationship Id="rId4" Type="http://schemas.openxmlformats.org/officeDocument/2006/relationships/hyperlink" Target="http://www.animationfactory.com/" TargetMode="External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10.gif"/><Relationship Id="rId4" Type="http://schemas.openxmlformats.org/officeDocument/2006/relationships/image" Target="../media/image11.gif"/><Relationship Id="rId5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1.gif"/><Relationship Id="rId4" Type="http://schemas.openxmlformats.org/officeDocument/2006/relationships/image" Target="../media/image10.gif"/><Relationship Id="rId5" Type="http://schemas.openxmlformats.org/officeDocument/2006/relationships/image" Target="../media/image13.gif"/><Relationship Id="rId6" Type="http://schemas.openxmlformats.org/officeDocument/2006/relationships/image" Target="../media/image14.gif"/><Relationship Id="rId7" Type="http://schemas.openxmlformats.org/officeDocument/2006/relationships/image" Target="../media/image15.gif"/><Relationship Id="rId8" Type="http://schemas.openxmlformats.org/officeDocument/2006/relationships/image" Target="../media/image16.gif"/><Relationship Id="rId9" Type="http://schemas.openxmlformats.org/officeDocument/2006/relationships/image" Target="../media/image6.gif"/><Relationship Id="rId10" Type="http://schemas.openxmlformats.org/officeDocument/2006/relationships/image" Target="../media/image17.gif"/><Relationship Id="rId11" Type="http://schemas.openxmlformats.org/officeDocument/2006/relationships/image" Target="../media/image18.gif"/><Relationship Id="rId12" Type="http://schemas.openxmlformats.org/officeDocument/2006/relationships/slideLayout" Target="../slideLayouts/slideLayout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20.gif"/><Relationship Id="rId4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hyperlink" Target="http://seds.lpl.arizona.edu/nineplanets/nineplanets/nineplanets.html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04560" y="3886200"/>
            <a:ext cx="88390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resentation by t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 Cr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 , _______, _______, _________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2666880" y="1905120"/>
            <a:ext cx="42674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Comic Sans MS"/>
              </a:rPr>
              <a:t>Exploring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Comic Sans MS"/>
              <a:ea typeface="Comic Sans MS"/>
            </a:endParaRPr>
          </a:p>
        </p:txBody>
      </p:sp>
      <p:sp>
        <p:nvSpPr>
          <p:cNvPr id="43" name=""/>
          <p:cNvSpPr/>
          <p:nvPr/>
        </p:nvSpPr>
        <p:spPr>
          <a:xfrm>
            <a:off x="2057400" y="3429000"/>
            <a:ext cx="533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Insert the name of your plane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41148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590920" y="32004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__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43000" y="17524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1447920" y="0"/>
            <a:ext cx="6858000" cy="25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9754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387 E">
                                      <p:cBhvr>
                                        <p:cTn id="10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2000" fill="hold"/>
                                        <p:tgtEl>
                                          <p:spTgt spid="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have therefore concluded th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ibliograph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Samples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ine Plan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seds.lpl.arizona.edu/nineplanets/nineplanets/nineplane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SA K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kids.msfc.nasa.gov/SolarSystem/Planets/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imation Fa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animationfactory.com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Planet we are studying is ___________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0102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learned that the planet _________ is _______________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438280" y="4952880"/>
            <a:ext cx="571500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ert images on the slide and fill in the text box with information about your plan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istance from the Sun and from Eart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 is the __th planet from the Sun.  It is ___________ miles from the Su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stance of _______ from the earth is _____________ mi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334120" y="2438280"/>
            <a:ext cx="2886120" cy="185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ze of the plan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 is the __ largest planet in our solar system.  It’s diameter is _______ and it’s density is _____________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t is _____ the size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048360" y="2673360"/>
            <a:ext cx="2104920" cy="16844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95680" y="5257800"/>
            <a:ext cx="4191120" cy="6426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ll in the details and change the planet to a picture of your pla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880" y="3657600"/>
            <a:ext cx="530568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urface Temperature</a:t>
            </a:r>
            <a:endParaRPr b="0" lang="en-US" sz="18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" name="" descr=""/>
          <p:cNvPicPr/>
          <p:nvPr/>
        </p:nvPicPr>
        <p:blipFill>
          <a:blip r:embed="rId4"/>
          <a:stretch/>
        </p:blipFill>
        <p:spPr>
          <a:xfrm>
            <a:off x="6145200" y="304920"/>
            <a:ext cx="2435400" cy="6248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4800600"/>
            <a:ext cx="5181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urface temperature o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_____________________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33520" y="609480"/>
            <a:ext cx="51051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Arial"/>
              </a:rPr>
              <a:t>Appearan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what we know, the planet _______________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be described as being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o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1485720" cy="14857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095880" y="114300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5943600" y="2362320"/>
            <a:ext cx="1143000" cy="1085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04920" y="2057400"/>
            <a:ext cx="5867280" cy="47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otational Period (length of one day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 takes _____ for the planet to rotate one entire turn on its axis.  It takes 23.94 hours which we round off to 24 hours on earth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5 0.07467 0.125 0.16667 C 0.125 0.25867 0.069 0.33333 0 0.33333 C -0.069 0.33333 -0.125 0.25867 -0.125 0.16667 C -0.125 0.07467 -0.069 0 0 0 Z">
                                      <p:cBhvr>
                                        <p:cTn id="18" dur="2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ngth of 1 Ye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bital Period (length of one yea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takes ________         for the planet to make one revolution around the sun. (It is 365.25 days on ear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5105520" y="1600200"/>
            <a:ext cx="904680" cy="80964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3"/>
          <a:stretch/>
        </p:blipFill>
        <p:spPr>
          <a:xfrm>
            <a:off x="5715000" y="2514600"/>
            <a:ext cx="1314360" cy="12492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4"/>
          <a:stretch/>
        </p:blipFill>
        <p:spPr>
          <a:xfrm>
            <a:off x="6248520" y="1828800"/>
            <a:ext cx="714240" cy="71424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5"/>
          <a:stretch/>
        </p:blipFill>
        <p:spPr>
          <a:xfrm>
            <a:off x="4495680" y="2590920"/>
            <a:ext cx="714600" cy="714240"/>
          </a:xfrm>
          <a:prstGeom prst="rect">
            <a:avLst/>
          </a:prstGeom>
          <a:ln w="0">
            <a:noFill/>
          </a:ln>
        </p:spPr>
      </p:pic>
      <p:pic>
        <p:nvPicPr>
          <p:cNvPr id="73" name="" descr=""/>
          <p:cNvPicPr/>
          <p:nvPr/>
        </p:nvPicPr>
        <p:blipFill>
          <a:blip r:embed="rId6"/>
          <a:stretch/>
        </p:blipFill>
        <p:spPr>
          <a:xfrm>
            <a:off x="4343400" y="358128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7"/>
          <a:stretch/>
        </p:blipFill>
        <p:spPr>
          <a:xfrm>
            <a:off x="7010280" y="2438280"/>
            <a:ext cx="486000" cy="48600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8"/>
          <a:stretch/>
        </p:blipFill>
        <p:spPr>
          <a:xfrm>
            <a:off x="6477120" y="480060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9"/>
          <a:stretch/>
        </p:blipFill>
        <p:spPr>
          <a:xfrm>
            <a:off x="6934320" y="3581280"/>
            <a:ext cx="1828800" cy="146376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10"/>
          <a:stretch/>
        </p:blipFill>
        <p:spPr>
          <a:xfrm>
            <a:off x="5334120" y="5638680"/>
            <a:ext cx="714240" cy="7146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11"/>
          <a:stretch/>
        </p:blipFill>
        <p:spPr>
          <a:xfrm>
            <a:off x="8458200" y="1066680"/>
            <a:ext cx="428760" cy="42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olcanic Acti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057040"/>
            <a:ext cx="403848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plane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s made mainly of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t does/does not have volcanic activity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248520" y="4114800"/>
            <a:ext cx="1104840" cy="22096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57200" y="304920"/>
            <a:ext cx="1486080" cy="148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tellites (Moons) and R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___________ has ___ mo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828800" y="2666880"/>
            <a:ext cx="4038480" cy="229104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609480" y="5334120"/>
            <a:ext cx="7772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ok for photos of the moons of planets 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seds.lpl.arizona.edu/nineplanets/nineplanets/nineplanet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867280" y="1676520"/>
            <a:ext cx="281952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 has ___ mo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03T23:47:04Z</dcterms:created>
  <dc:creator>ROBERT D. CURRY</dc:creator>
  <dc:description/>
  <dc:language>en-US</dc:language>
  <cp:lastModifiedBy>Teacher</cp:lastModifiedBy>
  <dcterms:modified xsi:type="dcterms:W3CDTF">2007-03-07T16:11:47Z</dcterms:modified>
  <cp:revision>3</cp:revision>
  <dc:subject/>
  <dc:title>Solar System WebQuest  </dc:title>
</cp:coreProperties>
</file>